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81F-BAA7-4737-891D-4533C854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CA2-AFC5-4A62-86F4-1861D7B3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8A7-8A92-4203-99C8-4EE82E1C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194-E9E1-4381-8778-8673EAE8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FEC-DB7F-4CF3-A8EB-C3DE6704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888-20AA-4935-B610-F45005A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6C2-6827-479D-AE74-62B7A285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C92-6DFA-442C-BADC-B56B2ED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69C-D7A5-4513-B1E8-BAC7CFEB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051-1030-4382-B218-C885E2A1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AE8-FD82-4ADC-8176-74B4F32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E38-5488-4CCF-815C-E7D90C2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737-8A92-4C59-9ADC-608111507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4/Flag_of_Israel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egory:Landforms_of_Israel" TargetMode="External"/><Relationship Id="rId2" Type="http://schemas.openxmlformats.org/officeDocument/2006/relationships/hyperlink" Target="http://www.indexmundi.com/israel/natural_resources.html" TargetMode="External"/><Relationship Id="rId3" Type="http://schemas.openxmlformats.org/officeDocument/2006/relationships/hyperlink" Target="http://www.science.co.il/Israel-Climate.asp" TargetMode="External"/><Relationship Id="rId4" Type="http://schemas.openxmlformats.org/officeDocument/2006/relationships/hyperlink" Target="http://www.jewishsoftware.com/products/Israel_Images_Israel_Wildlife_846.asp?bhcd2=1235054915" TargetMode="External"/><Relationship Id="rId5" Type="http://schemas.openxmlformats.org/officeDocument/2006/relationships/hyperlink" Target="http://www.tau.ac.il/~ibs/album/index3.htm" TargetMode="External"/><Relationship Id="rId6" Type="http://schemas.openxmlformats.org/officeDocument/2006/relationships/hyperlink" Target="http://en.wikipedia.org/wiki/Israel" TargetMode="External"/><Relationship Id="rId7" Type="http://schemas.openxmlformats.org/officeDocument/2006/relationships/hyperlink" Target="http://en.wikipedia.org/wiki/Economy_of_Israel" TargetMode="External"/><Relationship Id="rId8" Type="http://schemas.openxmlformats.org/officeDocument/2006/relationships/hyperlink" Target="http://www.mfa.gov.il/MFA/Facts+About+Israel/Israel+in+Maps/Literacy+rate.htm" TargetMode="External"/><Relationship Id="rId9" Type="http://schemas.openxmlformats.org/officeDocument/2006/relationships/hyperlink" Target="http://www.travelmania.com/facts.asp" TargetMode="External"/><Relationship Id="rId10" Type="http://schemas.openxmlformats.org/officeDocument/2006/relationships/hyperlink" Target="http://www.asiarooms.com/travel-guide/israel/culture-of-israel/architecture-in-israel.html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·Israel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172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eg and/or Rus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le:Flag of Israel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600200"/>
            <a:ext cx="5867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·Places to Visit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ist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di -Natur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eshah - Cave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mran - Mon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ficant History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u Ghosh – Crusader </a:t>
            </a:r>
            <a:r>
              <a:rPr b="0" lang="en-US" sz="2400" spc="-1" strike="noStrike">
                <a:solidFill>
                  <a:srgbClr val="fc04a3"/>
                </a:solidFill>
                <a:latin typeface="Arial"/>
              </a:rPr>
              <a:t>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 George’s Monas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543800" y="5297400"/>
            <a:ext cx="16002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·Work cited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Category:Landforms_of_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ndexmundi.com/israel/natural_resources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cience.co.il/Israel-Climate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jewishsoftware.com/products/Israel_Images_Israel_Wildlife_846.asp?bhcd2=123505491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au.ac.il/~ibs/album/index3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hostednews/afp/article/ALeqM5j7CKrMXz3HHXSvXXLwpJWeo3Luh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olitics_of_Isra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ps.howstuffworks.com/maps-of-israel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n.wikipedia.org/wiki/Isra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n.wikipedia.org/wiki/Economy_of_Isra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mfa.gov.il/MFA/Facts+About+Israel/Israel+in+Maps/Literacy+rate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travelmania.com/facts.as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asiarooms.com/travel-guide/israel/culture-of-israel/architecture-in-israel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lanetware.com/top-tourist-attractions/israel-isr.ht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THE LAND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ert Northeast of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hdod Sand D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n 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hal Tze’eli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8f8f8"/>
                </a:solidFill>
                <a:uFillTx/>
                <a:latin typeface="Arial"/>
              </a:rPr>
              <a:t>·THE LAND… PART 2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2%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ly Under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LIMATE &amp; VEGETATION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 an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9 ° F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arts it snows a lot others not s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d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different animal types from deer and fishes to things like goats and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ge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ts of different types of pl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·Government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i President Shimon P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or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7 M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28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Events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president is tal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olitical lea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new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s was bor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us was crucified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Economy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worl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 in diamond 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elry, integ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 circuit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ing machiner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elecom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c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Ne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kel (1 US Dollar = 4.1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Israeli New Shek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ulture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ual and comfortable. dark suit for 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cktail dress for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 languages like French and Spa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·Culture+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(s) Prac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s because it has total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/Build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like buildings in New York and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5:41Z</dcterms:created>
  <dc:creator>gregoryaadams</dc:creator>
  <dc:description/>
  <dc:language>en-US</dc:language>
  <cp:lastModifiedBy>russelljtasker</cp:lastModifiedBy>
  <dcterms:modified xsi:type="dcterms:W3CDTF">2009-02-26T17:13:26Z</dcterms:modified>
  <cp:revision>10</cp:revision>
  <dc:subject/>
  <dc:title>Israel</dc:title>
</cp:coreProperties>
</file>